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0AA-15BE-43C0-8C84-2CEA61A4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24C-B1AF-44CF-A67D-DA77A42C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459-D591-482A-92EC-99368704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2BC-0222-4F39-9335-CCEB0377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5F4A-49B1-4EA0-A70C-C3B504C6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99A8-31A9-45C1-99D8-BC8FCBFF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6ACE-0DBD-464F-9C72-03D2D20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53EC-C8ED-4E80-B6C7-7C79CAEA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500A-FB7D-4E5F-88C9-1F2A04D3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7FC5-C76F-4B8F-8919-B38B9A68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5775-F00B-4C8A-B905-A71C7B97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BF87-9558-4926-BCE6-05EE9F62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13F5-7A40-4DDC-90E5-5B3BAADC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BC83-C2F5-406B-A616-81CA65B3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68DB-0D41-4E4D-8683-D231DAA6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FF3C-94A4-4249-8628-124E42E0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9F4B-7A42-4D10-929B-8E595F04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952-B9CC-46FB-8CBD-7F43677B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592-B288-4567-BABE-CA53A4AA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1DB-49B9-4F0E-A9A6-17283B73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2DE-EC61-4DCB-AD82-873AA1EF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5C7-EF2B-4819-96A7-8DE041D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B1A-AB48-426B-B96F-492D2622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B00-A37B-432F-9961-CC064B90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B837-DA80-40F9-AD71-3EB866592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A419-B303-49EE-B90E-903A1D7C6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Land Use Conflict in the Amazon Rainforest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7339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vironmentalis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slow the clearing of the Ama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 biodiversity. Possible cures in rare pla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acres of rainforest = 750 kinds of trees, 1,500 kinds of plants, 400 kinds of bi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 slower, smarter rainforest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deas for Reducing Land Confli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cotou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Sustainabl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y products that protect rain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ide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ny-Layered 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 floor 0-3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Story 3-100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py 100-165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oxygen cycle: carbon and oxygen cycle among plants, people and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oups that have interest in Amazon R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genous Peo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ber Ta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tle Ran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leads to LAND USE CONFL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digenous Peo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 is Amazon Rainforest (12,000 yr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don’t know outsid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zil wants to develop interior of their country. Ind. People su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genous People have learned to work with Govern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ubber Tapp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sap from certain trees that grow in rain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diagonal cuts in the bark, does NOT hurt the forest. It is sustain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 in Amaz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stop the widespread clearing of 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gg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vest trees for woo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ety of trees = large supplier of all types of furni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gers clear-cut whole patches of rain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ore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ttl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zil govt encourages poor ppl to move to the rain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ound it hard to farm in Amaz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has grown against them as they take more and mor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ttle Ranch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n large areas of land in Amaz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grasslands to gra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zil exports a lot of beef, but some still don’t think the deforestation is worth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47:50Z</dcterms:created>
  <dc:creator>tmoore</dc:creator>
  <dc:description/>
  <dc:language>en-US</dc:language>
  <cp:lastModifiedBy>tmoore</cp:lastModifiedBy>
  <dcterms:modified xsi:type="dcterms:W3CDTF">2009-05-11T18:59:01Z</dcterms:modified>
  <cp:revision>13</cp:revision>
  <dc:subject/>
  <dc:title>Land Use Conflict in the Amazon Rainforest</dc:title>
</cp:coreProperties>
</file>